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4.jpeg" ContentType="image/jpeg"/>
  <Override PartName="/ppt/media/image31.jpeg" ContentType="image/jpeg"/>
  <Override PartName="/ppt/media/image25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media/image32.png" ContentType="image/png"/>
  <Override PartName="/ppt/media/image27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3.jpeg" ContentType="image/jpeg"/>
  <Override PartName="/ppt/media/image28.png" ContentType="image/png"/>
  <Override PartName="/ppt/media/image1.wmf" ContentType="image/x-wmf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2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678-7EC5-41C1-B80D-51C27D97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02C-132B-4B84-ADDE-7C2E313E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738-4674-4D4F-84AA-17D78C11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9BE-894B-46FE-B832-7924F0FE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53F-D314-405E-8066-0263F44E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3E5-EAA1-4F64-966A-ABC8949D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B24-C25C-45D6-837C-0100E797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AE8-ACC6-473F-AEC8-6ADA4BC3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CA2-3D99-4556-8906-1AF3F124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694-A417-4EDD-AB94-403FF97F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571-F4B5-49AC-8AA3-F55E26FD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C9F-8909-4CAE-85F6-F7FD4193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6EC5-BFB1-43BE-AA7B-00F6124B9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HGRI_human_male_karyotype.png" TargetMode="Externa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\\udfs01\hstshare\DeLaurentis - Biology 392\Biology 392\Unit 3 - Chapters 10, 36.3, 11, 12, 13, 14\Chapter 11 - Meiosis and Intro to Genetics\Chapter 11-3 and 5 - Mend Genetics, Linkage + Gene Maps\Biology 392\Unit 3 - Chapters 10, 36.3, 11, 12, 13, 14\Chapter 11 - Meiosis and Intro to Genetics\Movies\Chapter 11E.mpg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\\udfs01\hstshare\DeLaurentis - Biology 392\Biology 392\Unit 3 - Chapters 10, 36.3, 11, 12, 13, 14\Chapter 11 - Meiosis and Intro to Genetics\Chapter 11-3 and 5 - Mend Genetics, Linkage + Gene Maps\Biology 392\Unit 3 - Chapters 10, 36.3, 11, 12, 13, 14\Chapter 11 - Meiosis and Intro to Genetics\Movies\Chapter 11D.mpg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84582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- 3: Exploring Mendelian Genetic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-5: Linkage and Gene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76920" y="3581280"/>
            <a:ext cx="2921040" cy="2746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9320" y="3657600"/>
            <a:ext cx="1990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gning the 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1 gen now has: Rr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tter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t to each of the 2 letters in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tter o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t to each of the 2 letters in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R r Y 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possibilities: RY, Ry, rY, 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rved Down Arrow 10"/>
          <p:cNvSpPr/>
          <p:nvPr/>
        </p:nvSpPr>
        <p:spPr>
          <a:xfrm>
            <a:off x="3352680" y="4038480"/>
            <a:ext cx="1752840" cy="381240"/>
          </a:xfrm>
          <a:custGeom>
            <a:avLst/>
            <a:gdLst>
              <a:gd name="textAreaLeft" fmla="*/ 386640 w 1752840"/>
              <a:gd name="textAreaRight" fmla="*/ 1297440 w 17528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35" hR="21600" stAng="10800000" swAng="5400000"/>
                <a:lnTo>
                  <a:pt x="11222" y="0"/>
                </a:lnTo>
                <a:arcTo wR="9535" hR="21600" stAng="-5400000" swAng="3580500"/>
                <a:lnTo>
                  <a:pt x="21297" y="16200"/>
                </a:lnTo>
                <a:lnTo>
                  <a:pt x="19913" y="21600"/>
                </a:lnTo>
                <a:lnTo>
                  <a:pt x="17922" y="16200"/>
                </a:lnTo>
                <a:lnTo>
                  <a:pt x="18766" y="16200"/>
                </a:lnTo>
                <a:arcTo wR="9535" hR="21600" stAng="-1819500" swAng="-3445793"/>
                <a:lnTo>
                  <a:pt x="10378" y="85"/>
                </a:lnTo>
                <a:arcTo wR="9535" hR="21600" stAng="-5534707" swAng="-5265293"/>
                <a:close/>
              </a:path>
              <a:path fill="darkenLess" w="21600" h="21600">
                <a:moveTo>
                  <a:pt x="0" y="21600"/>
                </a:moveTo>
                <a:arcTo wR="9535" hR="21600" stAng="10800000" swAng="5400000"/>
                <a:lnTo>
                  <a:pt x="9535" y="0"/>
                </a:lnTo>
                <a:arcTo wR="9535" hR="21600" stAng="-5400000" swAng="134707"/>
                <a:lnTo>
                  <a:pt x="10378" y="85"/>
                </a:lnTo>
                <a:arcTo wR="9535" hR="21600" stAng="-5534707" swAng="-5265293"/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rved Down Arrow 11"/>
          <p:cNvSpPr/>
          <p:nvPr/>
        </p:nvSpPr>
        <p:spPr>
          <a:xfrm>
            <a:off x="3505320" y="4114800"/>
            <a:ext cx="2438280" cy="380880"/>
          </a:xfrm>
          <a:custGeom>
            <a:avLst/>
            <a:gdLst>
              <a:gd name="textAreaLeft" fmla="*/ 563760 w 2438280"/>
              <a:gd name="textAreaRight" fmla="*/ 1813680 w 2438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rved Up Arrow 13"/>
          <p:cNvSpPr/>
          <p:nvPr/>
        </p:nvSpPr>
        <p:spPr>
          <a:xfrm>
            <a:off x="4114800" y="5334120"/>
            <a:ext cx="990720" cy="380880"/>
          </a:xfrm>
          <a:custGeom>
            <a:avLst/>
            <a:gdLst>
              <a:gd name="textAreaLeft" fmla="*/ 189360 w 990720"/>
              <a:gd name="textAreaRight" fmla="*/ 723960 w 9907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69" hR="21600" stAng="10800000" swAng="-5400000"/>
                <a:lnTo>
                  <a:pt x="11645" y="21600"/>
                </a:lnTo>
                <a:arcTo wR="8269" hR="21600" stAng="5400000" swAng="-3360022"/>
                <a:lnTo>
                  <a:pt x="21337" y="5400"/>
                </a:lnTo>
                <a:lnTo>
                  <a:pt x="18225" y="0"/>
                </a:lnTo>
                <a:lnTo>
                  <a:pt x="14587" y="5400"/>
                </a:lnTo>
                <a:lnTo>
                  <a:pt x="16274" y="5400"/>
                </a:lnTo>
                <a:arcTo wR="8269" hR="21600" stAng="2039978" swAng="3086170"/>
                <a:lnTo>
                  <a:pt x="9957" y="21145"/>
                </a:lnTo>
                <a:arcTo wR="8269" hR="21600" stAng="5673852" swAng="5126148"/>
                <a:close/>
              </a:path>
              <a:path fill="darkenLess" w="21600" h="21600">
                <a:moveTo>
                  <a:pt x="0" y="0"/>
                </a:moveTo>
                <a:arcTo wR="8269" hR="21600" stAng="10800000" swAng="-5400000"/>
                <a:lnTo>
                  <a:pt x="11645" y="21600"/>
                </a:lnTo>
                <a:arcTo wR="8269" hR="21600" stAng="5400000" swAng="273852"/>
                <a:lnTo>
                  <a:pt x="9957" y="21145"/>
                </a:lnTo>
                <a:arcTo wR="8269" hR="21600" stAng="5673852" swAng="5126148"/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rved Up Arrow 14"/>
          <p:cNvSpPr/>
          <p:nvPr/>
        </p:nvSpPr>
        <p:spPr>
          <a:xfrm>
            <a:off x="4267080" y="5334120"/>
            <a:ext cx="1676520" cy="457200"/>
          </a:xfrm>
          <a:custGeom>
            <a:avLst/>
            <a:gdLst>
              <a:gd name="textAreaLeft" fmla="*/ 366480 w 1676520"/>
              <a:gd name="textAreaRight" fmla="*/ 1239840 w 1676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emc.maricopa.edu/faculty/farabee/BIOBK/dihyb2.gif"/>
          <p:cNvPicPr/>
          <p:nvPr/>
        </p:nvPicPr>
        <p:blipFill>
          <a:blip r:embed="rId1"/>
          <a:stretch/>
        </p:blipFill>
        <p:spPr>
          <a:xfrm>
            <a:off x="228600" y="228600"/>
            <a:ext cx="8381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t x Het dihybrid cross yields the typical phenotypic ratio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9: 3: 3: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dihybrid.jpg"/>
          <p:cNvPicPr/>
          <p:nvPr/>
        </p:nvPicPr>
        <p:blipFill>
          <a:blip r:embed="rId1"/>
          <a:stretch/>
        </p:blipFill>
        <p:spPr>
          <a:xfrm>
            <a:off x="3124080" y="2743200"/>
            <a:ext cx="5770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You T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umans, the gene that causes a unibrow (u) is recessive to not connected eyebrows (U); the gene for thick lips (T) is dominant over the gene for thin lips (t).  If a male that is homozygous for not connected eyebrows and heterozygous for thick lips mates with a woman who has a unibrow and is heterozygous for thick lips, what is the phenotypic ratio of the offsp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jolill\AppData\Local\Microsoft\Windows\Temporary Internet Files\Content.IE5\7CPA9WEO\MCj04363910000[1].png"/>
          <p:cNvPicPr/>
          <p:nvPr/>
        </p:nvPicPr>
        <p:blipFill>
          <a:blip r:embed="rId1"/>
          <a:stretch/>
        </p:blipFill>
        <p:spPr>
          <a:xfrm rot="19988400">
            <a:off x="990360" y="761760"/>
            <a:ext cx="129528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jolill\AppData\Local\Microsoft\Windows\Temporary Internet Files\Content.IE5\7CPA9WEO\MCj04363910000[1].png"/>
          <p:cNvPicPr/>
          <p:nvPr/>
        </p:nvPicPr>
        <p:blipFill>
          <a:blip r:embed="rId2"/>
          <a:stretch/>
        </p:blipFill>
        <p:spPr>
          <a:xfrm rot="1558200">
            <a:off x="6933960" y="838080"/>
            <a:ext cx="1295280" cy="838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jolill\AppData\Local\Microsoft\Windows\Temporary Internet Files\Content.IE5\ZIHHMIK6\MCPE02771_0000[1].wmf"/>
          <p:cNvPicPr/>
          <p:nvPr/>
        </p:nvPicPr>
        <p:blipFill>
          <a:blip r:embed="rId3"/>
          <a:stretch/>
        </p:blipFill>
        <p:spPr>
          <a:xfrm flipH="1" rot="20163000">
            <a:off x="565200" y="258120"/>
            <a:ext cx="137160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jolill\AppData\Local\Microsoft\Windows\Temporary Internet Files\Content.IE5\ZIHHMIK6\MCPE02771_0000[1].wmf"/>
          <p:cNvPicPr/>
          <p:nvPr/>
        </p:nvPicPr>
        <p:blipFill>
          <a:blip r:embed="rId4"/>
          <a:stretch/>
        </p:blipFill>
        <p:spPr>
          <a:xfrm flipH="1" rot="1374000">
            <a:off x="7195680" y="401400"/>
            <a:ext cx="1371600" cy="45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jolill\AppData\Local\Microsoft\Windows\Temporary Internet Files\Content.IE5\9ISTM1HJ\MCDD00839_0000[1].wmf"/>
          <p:cNvPicPr/>
          <p:nvPr/>
        </p:nvPicPr>
        <p:blipFill>
          <a:blip r:embed="rId5"/>
          <a:stretch/>
        </p:blipFill>
        <p:spPr>
          <a:xfrm rot="1266600">
            <a:off x="7165800" y="296640"/>
            <a:ext cx="170676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set it u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otyp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UUT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-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uuT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sible Different Combinations of Alle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UT or Ut    --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uT or  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jolill\AppData\Local\Microsoft\Windows\Temporary Internet Files\Content.IE5\ZIHHMIK6\MCPE02771_0000[1].wmf"/>
          <p:cNvPicPr/>
          <p:nvPr/>
        </p:nvPicPr>
        <p:blipFill>
          <a:blip r:embed="rId1"/>
          <a:stretch/>
        </p:blipFill>
        <p:spPr>
          <a:xfrm flipH="1">
            <a:off x="304920" y="0"/>
            <a:ext cx="1371600" cy="45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jolill\AppData\Local\Microsoft\Windows\Temporary Internet Files\Content.IE5\ZIHHMIK6\MCPE02771_0000[1].wmf"/>
          <p:cNvPicPr/>
          <p:nvPr/>
        </p:nvPicPr>
        <p:blipFill>
          <a:blip r:embed="rId2"/>
          <a:stretch/>
        </p:blipFill>
        <p:spPr>
          <a:xfrm flipH="1">
            <a:off x="7543800" y="0"/>
            <a:ext cx="1295280" cy="42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jolill\AppData\Local\Microsoft\Windows\Temporary Internet Files\Content.IE5\7CPA9WEO\MCj04363910000[1].png"/>
          <p:cNvPicPr/>
          <p:nvPr/>
        </p:nvPicPr>
        <p:blipFill>
          <a:blip r:embed="rId3"/>
          <a:stretch/>
        </p:blipFill>
        <p:spPr>
          <a:xfrm>
            <a:off x="533520" y="533520"/>
            <a:ext cx="838080" cy="542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jolill\AppData\Local\Microsoft\Windows\Temporary Internet Files\Content.IE5\ZIHHMIK6\MCHM00295_0000[1].wmf"/>
          <p:cNvPicPr/>
          <p:nvPr/>
        </p:nvPicPr>
        <p:blipFill>
          <a:blip r:embed="rId4"/>
          <a:stretch/>
        </p:blipFill>
        <p:spPr>
          <a:xfrm>
            <a:off x="7391520" y="533520"/>
            <a:ext cx="152388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3429000" y="4114800"/>
          <a:ext cx="2895480" cy="2438280"/>
        </p:xfrm>
        <a:graphic>
          <a:graphicData uri="http://schemas.openxmlformats.org/drawingml/2006/table">
            <a:tbl>
              <a:tblPr/>
              <a:tblGrid>
                <a:gridCol w="609480"/>
                <a:gridCol w="1155960"/>
                <a:gridCol w="11300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800600" y="38098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5105520"/>
            <a:ext cx="4572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35053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Make one column for each possible different combination of alleles from 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4495680"/>
            <a:ext cx="22860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Make one row for each possible different combination of alleles from 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4876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495288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800600" y="4038480"/>
            <a:ext cx="1905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4038480"/>
            <a:ext cx="838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594360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Fill in the bo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1066680"/>
            <a:ext cx="3276720" cy="16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not connected eyeb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unib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thick 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thin 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lts of the C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3048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4800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U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0" y="1523880"/>
          <a:ext cx="4419720" cy="4014720"/>
        </p:xfrm>
        <a:graphic>
          <a:graphicData uri="http://schemas.openxmlformats.org/drawingml/2006/table">
            <a:tbl>
              <a:tblPr/>
              <a:tblGrid>
                <a:gridCol w="865440"/>
                <a:gridCol w="1641240"/>
                <a:gridCol w="1913040"/>
              </a:tblGrid>
              <a:tr h="114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28600" y="6078600"/>
            <a:ext cx="8915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 not connected eyebrows &amp; thick lips  :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 not connected eyebrows &amp; thin 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410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enotypic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962520"/>
            <a:ext cx="1904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include the phenotypes present in the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ing It Up: Mendel’s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Parents pass on characteristics, sexually,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through gen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heir offsp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When there are multiple alleles (appearances) for one gene, some are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&amp; some are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reces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formation of parental gametes,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alleles are segregated into separate gametes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ach parent is then able to pass ONE allele to the child.  The child therefore gets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ONE allele from EACH pa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hromosomes (and therefore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alle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from each parent arrange themselves 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independentl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ing mei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11-3 Exploring Mendelian Gene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ing Beyond Simple Domi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enic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 linked (or sex linked)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Incomplete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cases, neither allele truly dominates over the ot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llele is really dominant or rec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terozygous genotype shows a </a:t>
            </a: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MI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two tra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- Four O’C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 gene for red flowers, W- gene for white flo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- red,   WW- white, RW- </a:t>
            </a: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p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Example: Snapdrag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incomdom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276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66680" y="1295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=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 =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6019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W = 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7920" y="2743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What are the chan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eople with brown hair always have brown ey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people with brown hair have a higher chance of having brown ey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round pea seed always yellow?  Can a short plant have purple flow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discovermagazine.com/2007/mar/eye-color-explained/eyes-400.jpg"/>
          <p:cNvPicPr/>
          <p:nvPr/>
        </p:nvPicPr>
        <p:blipFill>
          <a:blip r:embed="rId1"/>
          <a:stretch/>
        </p:blipFill>
        <p:spPr>
          <a:xfrm>
            <a:off x="228600" y="228600"/>
            <a:ext cx="24382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roblucassalon.files.wordpress.com/2007/06/cropped-color.jpg"/>
          <p:cNvPicPr/>
          <p:nvPr/>
        </p:nvPicPr>
        <p:blipFill>
          <a:blip r:embed="rId2"/>
          <a:stretch/>
        </p:blipFill>
        <p:spPr>
          <a:xfrm>
            <a:off x="3429000" y="1295280"/>
            <a:ext cx="46483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Co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me cases, both alleles are domina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llele is really reces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terozygous genotype shows </a:t>
            </a: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two tra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- Chicken fea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- gene for black feathers, W- gene for white feath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- black,   WW- whit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W- “erminette” Black and Wh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http://www.harvestofhistory.org/assets/object-images/main/dominique.jpg"/>
          <p:cNvPicPr/>
          <p:nvPr/>
        </p:nvPicPr>
        <p:blipFill>
          <a:blip r:embed="rId1"/>
          <a:stretch/>
        </p:blipFill>
        <p:spPr>
          <a:xfrm>
            <a:off x="6934320" y="4343400"/>
            <a:ext cx="19303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Multiple All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genes have more than just two alleles for a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, you can still only have 2 alleles at a tim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till just ONE gene, but lots of pos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Alleles for rabbit 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-full color, dominates over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inchilla, dominates over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imalayan,  dominates over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-  albino,   recessive to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ontent Placeholder 3" descr="rabbit color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Practice Cro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 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Heather"/>
              </a:rPr>
              <a:t>ch</a:t>
            </a: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c</a:t>
            </a:r>
            <a:r>
              <a:rPr b="0" lang="en-US" sz="4000" spc="-1" strike="noStrike" baseline="30000">
                <a:solidFill>
                  <a:srgbClr val="000000"/>
                </a:solidFill>
                <a:latin typeface="Heather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 x  c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1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henotypes of the par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gray x alb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the Punnett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robability that an offspring will be albino (albino = cc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out of 4  = 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robability that an offspring will be himalayan (himalayan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out of 4 =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867280" y="3048120"/>
          <a:ext cx="2819520" cy="213336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57"/>
          <p:cNvSpPr/>
          <p:nvPr/>
        </p:nvSpPr>
        <p:spPr>
          <a:xfrm>
            <a:off x="6248520" y="24382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8"/>
          <p:cNvSpPr/>
          <p:nvPr/>
        </p:nvSpPr>
        <p:spPr>
          <a:xfrm>
            <a:off x="5105520" y="42670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9"/>
          <p:cNvSpPr/>
          <p:nvPr/>
        </p:nvSpPr>
        <p:spPr>
          <a:xfrm>
            <a:off x="5105520" y="3124080"/>
            <a:ext cx="609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7"/>
          <p:cNvSpPr/>
          <p:nvPr/>
        </p:nvSpPr>
        <p:spPr>
          <a:xfrm>
            <a:off x="7467480" y="2438280"/>
            <a:ext cx="609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43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3124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 g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 g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4114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malay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31240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malay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Polygenic 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raits result from the interaction of several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genes, perhaps on different chromosomes ev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 one 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enic traits can produce a large range of phen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human skin color (at least 4 genes), human eye color, human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Content Placeholder 3" descr="skin.gif"/>
          <p:cNvPicPr/>
          <p:nvPr/>
        </p:nvPicPr>
        <p:blipFill>
          <a:blip r:embed="rId1"/>
          <a:stretch/>
        </p:blipFill>
        <p:spPr>
          <a:xfrm>
            <a:off x="304920" y="533520"/>
            <a:ext cx="838188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letters = dark;  small letters = light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ark alleles = darke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fig.cox.miami.edu/~cmallery/150/mendel/sf10x20b.jpg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ation of Human Skin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SKIN1A"/>
          <p:cNvPicPr/>
          <p:nvPr/>
        </p:nvPicPr>
        <p:blipFill>
          <a:blip r:embed="rId1"/>
          <a:stretch/>
        </p:blipFill>
        <p:spPr>
          <a:xfrm>
            <a:off x="457200" y="1143000"/>
            <a:ext cx="4191120" cy="5029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skin1b"/>
          <p:cNvPicPr/>
          <p:nvPr/>
        </p:nvPicPr>
        <p:blipFill>
          <a:blip r:embed="rId2"/>
          <a:stretch/>
        </p:blipFill>
        <p:spPr>
          <a:xfrm>
            <a:off x="4648320" y="1143000"/>
            <a:ext cx="42764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ight in Hum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phenotypes resulting from polygenic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49ab8f77-f675-423a-b8af-d46874987ab3"/>
          <p:cNvPicPr/>
          <p:nvPr/>
        </p:nvPicPr>
        <p:blipFill>
          <a:blip r:embed="rId1"/>
          <a:stretch/>
        </p:blipFill>
        <p:spPr>
          <a:xfrm>
            <a:off x="685800" y="2286000"/>
            <a:ext cx="7848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Human Bloo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ibit 3 special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alle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, B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gen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ne gene controls type, another gene controls rH factor (+, 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omin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 and B are codominant but both dominate over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ASSO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heritance of one gene does not influence the inheritance of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del name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The Law of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eiosis, the chromosomes line up randomly on the equator to be separa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parents are heterozygous for any traits, this leads to lots of possibilit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bloodtyp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16_3T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What does your blood type actually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blood_type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Karyogram of human male using Giemsa staining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57200"/>
            <a:ext cx="8381880" cy="6199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it is the chromosomes that are segregated independently, not necessarily individual ge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genes are LINKED if they are on the same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you get all of the genes on chromosome 1 from your mom if you get her chr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at always the case though?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do you know might happen?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ing 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240"/>
            <a:ext cx="5410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ing on how FAR APART genes are on chromosomes, they may be switched during mei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during Prophase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be homologous chromos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867280" y="456840"/>
            <a:ext cx="2819520" cy="566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://www.phschool.com/science/biology_place/labbench/lab3/images/crossovr.gif"/>
          <p:cNvPicPr/>
          <p:nvPr/>
        </p:nvPicPr>
        <p:blipFill>
          <a:blip r:embed="rId2"/>
          <a:stretch/>
        </p:blipFill>
        <p:spPr>
          <a:xfrm>
            <a:off x="6172200" y="609480"/>
            <a:ext cx="2286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Chapter 11E.mpg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1240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rossing Ove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6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ctual genes are located on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by a student working in molecular lab at Columbia in 193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ooking at statistical inheritance patterns, you can calculate the “recombination frequency” of alle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genes are far apart, crossing over is more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x_chromoso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-linked Tra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called X- link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t can be dominant or rec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 of inheritance is altered because the trait is on the X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s- XX   Males-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Examples of X-linked tr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200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ch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str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hemophb"/>
          <p:cNvPicPr/>
          <p:nvPr/>
        </p:nvPicPr>
        <p:blipFill>
          <a:blip r:embed="rId1"/>
          <a:stretch/>
        </p:blipFill>
        <p:spPr>
          <a:xfrm>
            <a:off x="3505320" y="1752480"/>
            <a:ext cx="5410080" cy="4395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0880" y="5334120"/>
            <a:ext cx="27432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= hemophiliac 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2819520"/>
            <a:ext cx="45720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476760" y="31240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289548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: Has hemoph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81952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: Carries hemophilia 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30481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289548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indep assort.gif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c13x9independent-assortment.jpg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Mendel figure this 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8686800" cy="4906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experimen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rossed two different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was true-breeding for 2 different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gen:  </a:t>
            </a:r>
            <a:r>
              <a:rPr b="0" i="1" lang="en-US" sz="3200" spc="-1" strike="noStrike">
                <a:solidFill>
                  <a:srgbClr val="00b050"/>
                </a:solidFill>
                <a:latin typeface="Arial"/>
              </a:rPr>
              <a:t>rr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yy (</a:t>
            </a:r>
            <a:r>
              <a:rPr b="0" i="1" lang="en-US" sz="3200" spc="-1" strike="noStrike">
                <a:solidFill>
                  <a:srgbClr val="00b050"/>
                </a:solidFill>
                <a:latin typeface="Arial"/>
              </a:rPr>
              <a:t>wrinkled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 &amp; g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RYY (ROUND &amp; YEL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1 gen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r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 b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un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b050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i="1" lang="en-US" sz="3200" spc="-1" strike="noStrike">
                <a:solidFill>
                  <a:srgbClr val="00b050"/>
                </a:solidFill>
                <a:latin typeface="Arial"/>
              </a:rPr>
              <a:t>ssi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bili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hapter 11D.mpg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67280" cy="4282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38280" y="9144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egregation of Chromosome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www.emc.maricopa.edu/faculty/farabee/BIOBK/dihyb2.gif"/>
          <p:cNvPicPr/>
          <p:nvPr/>
        </p:nvPicPr>
        <p:blipFill>
          <a:blip r:embed="rId1"/>
          <a:stretch/>
        </p:blipFill>
        <p:spPr>
          <a:xfrm>
            <a:off x="228600" y="228600"/>
            <a:ext cx="8381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762120" y="-71280"/>
          <a:ext cx="8305560" cy="700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-71280"/>
                    <a:ext cx="830556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WordArt 5"/>
          <p:cNvSpPr txBox="1"/>
          <p:nvPr/>
        </p:nvSpPr>
        <p:spPr>
          <a:xfrm>
            <a:off x="609480" y="152280"/>
            <a:ext cx="4552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 Black"/>
              </a:rPr>
              <a:t>Two Trait Cross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1:40:05Z</dcterms:created>
  <dc:creator>Theresa DeLaurentis</dc:creator>
  <dc:description/>
  <dc:language>en-US</dc:language>
  <cp:lastModifiedBy>udsd</cp:lastModifiedBy>
  <dcterms:modified xsi:type="dcterms:W3CDTF">2010-04-19T20:20:16Z</dcterms:modified>
  <cp:revision>13</cp:revision>
  <dc:subject/>
  <dc:title>Slide 1</dc:title>
</cp:coreProperties>
</file>